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BAF7-DE99-462F-9262-7E6966B07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9C5A-ABCE-4767-8121-C0C4C5AF2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D112-BDE4-4CE1-85F4-776C40340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B7AF-FB2D-46FB-8A0F-464A771C3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6F9EC-8284-4DA9-B6F3-1E4A17A86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B47A3-84EB-4383-B00E-EEE518512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D4DB1-7ECD-4175-9201-35D667B67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AD273-0406-4CE4-B24D-22A30DAA2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2E9E0-3D54-4F88-A700-734BC67BC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9A104-81D8-4F36-AB04-FD29F3D83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2BCF7-1863-4F00-AB7A-2A1D6655A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71C2-2F54-4BD6-B7FB-EE6E203CC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DBEBE-1B82-414D-8287-2DF3CFFD8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21122-6281-4E78-8AE9-0D30F1BA4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48154-3601-464A-85EA-6FD847742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50C63-F488-404E-A4F8-AB4B249C0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247F1-C8B3-4720-AACB-0157AF7CA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8C9BA-8416-4E74-AEBF-D3AA0E75C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10B22-A086-464F-921B-778CA515A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E8251-FF06-4353-AA36-63AB64FDE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01F5F-EDF6-4246-A51A-DFEAB906B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E4C49-2F11-4D1A-90C9-C0B9C0524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AD1D-2A82-47CA-BD5A-0A6A3BE41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78B96-D9B2-44DE-81EF-1C5D92F3C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2C1A9-BE24-4557-927B-C7F424355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B85C3-D51C-4059-AC9C-AFE97C7C9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0B03D-5A06-4D25-B633-364FD95A8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008A5-D217-4F5D-A77C-72754BEF9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996A4-C8AC-45FC-8D82-A23EBDCA6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A71B1-03B4-4121-AE12-402E01F47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40EF4-ECC8-4A52-AD49-CD71A72DC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7CE27-943A-4F24-8CAD-7A5D305BD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72FB8-7BD9-47B6-BE99-0E9DF290F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114D-5788-4C09-B5F9-2F96D89C2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E4A96-67D2-41CC-B374-5A55201EA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4E0E2-14E7-4302-AE72-CFA16E156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98987-79EF-4C89-A57D-E0850F8C9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D3FE1-3973-446B-B98E-0734EA056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B5C6A-D60E-49A3-AB52-13061A9A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D4DED-5CFD-4ABA-A3D5-596E04633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9E121-B3E3-4110-B1BE-018C1ACBD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A209D-E7A8-46F5-8C16-871D43374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DC540-1368-4FFF-8786-56EB91D8E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B3A8BD-3A31-4789-A7DD-14F5B6225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F061-E645-42E4-B40F-F4DF21024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D79DE-052F-48ED-B385-F98AABEC4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BB2414-683A-4D0A-AD74-C3EB3B220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1E090B-1AB4-4FE4-937F-3A8E2BD53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04934-C32E-441B-9540-053467A8B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5CB312-20B0-426D-8F0D-D622ABCD6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22893D-57FD-4A25-A213-5C589BF0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4D711D-21DF-4000-921A-FBA808F4C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5F7EF-A859-4702-83FE-D8B50A499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D61C75-352E-4AAA-9771-36445071C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C663D8-D3B1-42DA-9777-15967A202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E5C5-DB36-46C5-A548-52A1B82A0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37F55-1586-4C25-A81C-F4CB23245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1134-EC5D-4D89-A8C7-113E43D1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4308-50CF-4C09-AEDA-35FD5468E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683C-0EAA-4EA8-A1E3-1BF77EDAB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A5AE0-8ABD-4A20-8D94-81E6B4AC0091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6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8" name="Straight Connector 8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1A9E9-02CF-4945-9230-3D792D3D09FE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5C796-88F1-4B0D-B2C7-ED8E1A8AA86C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Rectangle 8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BFDB4-AB14-4B04-B292-0C7D18AA5EC4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8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9DAAC-F561-4A42-8709-AA1BF9555264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hyperlink" Target="http://rds.yahoo.com/_ylt=A0WTb_251ZtMsE8AsrCJzbkF;_ylu=X3oDMTBpc2ozM2gzBHBvcwM0BHNlYwNzcgR2dGlkAw--/SIG=1eu7ne37s/EXP=1285367609/**http%3A//images.search.yahoo.com/images/view%3Fback=http%253A%252F%252Fimages.search.yahoo.com%252Fsearch%252Fimages%253Fp%253Dsun%2526ei%253Dutf-8%2526fr%253Dslv8-msgr%26w=3576%26h=3480%26imgurl=ellsworthme.org%252FMESEA%252FSarahSun2.gif%26rurl=http%253A%252F%252Fellsworthme.org%252FMESEA%252F%26size=107KB%26name=Sarah%2527s%2BSun%26p=sun%26oid=b26551eb90bc7e9979f568ae2ac4e3c0%26fr2=%26no=4%26tt=31900000%26sigr=10t2q1cun%26sigi=1137opu9b%26sigb=128mhgj6u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rds.yahoo.com/_ylt=A0PDoYCT3JtMxFkAfhGJzbkF;_ylu=X3oDMTBqamdoM3Q5BHBvcwMxMgRzZWMDc3IEdnRpZAM-/SIG=1ktv1g6mj/EXP=1285369363/**http%3A//images.search.yahoo.com/images/view%3Fback=http%253A%252F%252Fimages.search.yahoo.com%252Fsearch%252Fimages%253Fp%253Dtime%252Bpiece%2526ei%253DUTF-8%2526fr%253Dslv8-msgr%2526fr2%253Dtab-web%26w=640%26h=480%26imgurl=www.randomagic.com%252Fmm5%252Fgraphics%252F00000001%252Fmajestic.jpg%26rurl=http%253A%252F%252Fwww.randomagic.com%252Fmm5%252Fmerchant.mvc%253FScreen%253DPROD%2526Store_Code%253D%2526Product_Code%253Dranmaj%2526Category_Code%253DBestSellers%26size=79KB%26name=...%2BRoyal%2BMajest...%26p=time%2Bpiece%26oid=b68be996bc4d5f32941a74a83317fd8f%26fr2=tab-web%26no=12%26tt=5560000%26sigr=13g27c89k%26sigi=11l7evtsn%26sigb=12rfcr1eh" TargetMode="External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www.about.com/" TargetMode="External"/><Relationship Id="rId3" Type="http://schemas.openxmlformats.org/officeDocument/2006/relationships/hyperlink" Target="http://www.wiki.answers.com/" TargetMode="External"/><Relationship Id="rId4" Type="http://schemas.openxmlformats.org/officeDocument/2006/relationships/hyperlink" Target="http://www.answers.com/" TargetMode="External"/><Relationship Id="rId5" Type="http://schemas.openxmlformats.org/officeDocument/2006/relationships/hyperlink" Target="http://www.black-inventor.com/Benjamin-Banneker.asp" TargetMode="External"/><Relationship Id="rId6" Type="http://schemas.openxmlformats.org/officeDocument/2006/relationships/hyperlink" Target="http://www.itsaboutclocks.com/" TargetMode="External"/><Relationship Id="rId7" Type="http://schemas.openxmlformats.org/officeDocument/2006/relationships/hyperlink" Target="file:///a74a83317fd8f&amp;fr2=tab-web&amp;no=12&amp;tt=5560000&amp;sigr=13g27c89k&amp;sigi=11l7evtsn&amp;sigb=12rfcr1eh" TargetMode="External"/><Relationship Id="rId8" Type="http://schemas.openxmlformats.org/officeDocument/2006/relationships/hyperlink" Target="file:///a74a83317fd8f&amp;fr2=tab-web&amp;no=12&amp;tt=5560000&amp;sigr=13g27c89k&amp;sigi=11l7evtsn&amp;sigb=12rfcr1eh" TargetMode="External"/><Relationship Id="rId9" Type="http://schemas.openxmlformats.org/officeDocument/2006/relationships/hyperlink" Target="file:///a74a83317fd8f&amp;fr2=tab-web&amp;no=12&amp;tt=5560000&amp;sigr=13g27c89k&amp;sigi=11l7evtsn&amp;sigb=12rfcr1eh" TargetMode="External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Title 1" descr=""/>
          <p:cNvPicPr/>
          <p:nvPr/>
        </p:nvPicPr>
        <p:blipFill>
          <a:blip r:embed="rId2"/>
          <a:stretch/>
        </p:blipFill>
        <p:spPr>
          <a:xfrm>
            <a:off x="3359160" y="530280"/>
            <a:ext cx="5553000" cy="287820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By: Destiny Tucker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c66bb"/>
                </a:solidFill>
                <a:latin typeface="Trebuchet MS"/>
              </a:rPr>
              <a:t>Before clocks were made, time was told by the way the sun moved. The word clock was first used in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c66bb"/>
                </a:solidFill>
                <a:latin typeface="Trebuchet MS"/>
              </a:rPr>
              <a:t>the 14</a:t>
            </a:r>
            <a:r>
              <a:rPr b="0" lang="en-US" sz="2600" spc="-1" strike="noStrike" baseline="30000">
                <a:solidFill>
                  <a:srgbClr val="ac66bb"/>
                </a:solidFill>
                <a:latin typeface="Trebuchet MS"/>
              </a:rPr>
              <a:t>th</a:t>
            </a:r>
            <a:r>
              <a:rPr b="0" lang="en-US" sz="2600" spc="-1" strike="noStrike">
                <a:solidFill>
                  <a:srgbClr val="ac66bb"/>
                </a:solidFill>
                <a:latin typeface="Trebuchet MS"/>
              </a:rPr>
              <a:t> century, it’s from the Lati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c66bb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ac66bb"/>
                </a:solidFill>
                <a:latin typeface="Trebuchet MS"/>
              </a:rPr>
              <a:t>word “clocca” which means bell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457200"/>
            <a:ext cx="4572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b83d68"/>
                </a:solidFill>
                <a:latin typeface="Trebuchet MS"/>
              </a:rPr>
              <a:t>Introduction</a:t>
            </a: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ccff"/>
                </a:solidFill>
                <a:latin typeface="Trebuchet MS"/>
              </a:rPr>
              <a:t>Early clock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66ff"/>
                </a:solidFill>
                <a:latin typeface="Trebuchet MS"/>
              </a:rPr>
              <a:t>In the early 1750’s, Benjamin Banneker invented the first clock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66ff"/>
                </a:solidFill>
                <a:latin typeface="Trebuchet MS"/>
              </a:rPr>
              <a:t>He got the idea of making the clock from studying a pocket watch he got from a wealthy associate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66ff"/>
                </a:solidFill>
                <a:latin typeface="Trebuchet MS"/>
              </a:rPr>
              <a:t>After studying the watch, he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66ff"/>
                </a:solidFill>
                <a:latin typeface="Trebuchet MS"/>
              </a:rPr>
              <a:t>made a fully functioned clock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66ff"/>
                </a:solidFill>
                <a:latin typeface="Trebuchet MS"/>
              </a:rPr>
              <a:t>made out of wooden piece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7" name="Picture 3" descr="clock.gif"/>
          <p:cNvPicPr/>
          <p:nvPr/>
        </p:nvPicPr>
        <p:blipFill>
          <a:blip r:embed="rId1"/>
          <a:stretch/>
        </p:blipFill>
        <p:spPr>
          <a:xfrm>
            <a:off x="5410080" y="3581280"/>
            <a:ext cx="1981440" cy="28828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ff33"/>
                </a:solidFill>
                <a:latin typeface="Trebuchet MS"/>
              </a:rPr>
              <a:t>Peter Henlein made the time piece, better known as a wrist watch in 1504. But in 1878, Sir Sanford Fleming made it more accurate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ff33"/>
                </a:solidFill>
                <a:latin typeface="Trebuchet MS"/>
              </a:rPr>
              <a:t>Christian Huygens made the clock more accurate when he invented the pendulum clock, better known as the “Grandfather Clock”, in 1656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ff33"/>
                </a:solidFill>
                <a:latin typeface="Trebuchet MS"/>
              </a:rPr>
              <a:t>The clock that’s used in our every day life is called the quartz clock, It was invented in 1927 by Warren Marrison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"/>
          <p:cNvSpPr/>
          <p:nvPr/>
        </p:nvSpPr>
        <p:spPr>
          <a:xfrm>
            <a:off x="304920" y="304920"/>
            <a:ext cx="74674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de66"/>
                </a:solidFill>
                <a:latin typeface="Trebuchet MS"/>
              </a:rPr>
              <a:t>Changes of clocks over the years</a:t>
            </a: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Title 1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7608960" cy="11509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3" descr="clock.gif"/>
          <p:cNvPicPr/>
          <p:nvPr/>
        </p:nvPicPr>
        <p:blipFill>
          <a:blip r:embed="rId2"/>
          <a:stretch/>
        </p:blipFill>
        <p:spPr>
          <a:xfrm>
            <a:off x="3200400" y="1828800"/>
            <a:ext cx="1380960" cy="20098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Go to full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4920" y="2057400"/>
            <a:ext cx="1828800" cy="17715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Go to fullsize imag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066680" y="441972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Go to fullsize image"/>
          <p:cNvPicPr/>
          <p:nvPr/>
        </p:nvPicPr>
        <p:blipFill>
          <a:blip r:embed="rId7"/>
          <a:stretch/>
        </p:blipFill>
        <p:spPr>
          <a:xfrm>
            <a:off x="5486400" y="2133720"/>
            <a:ext cx="2209680" cy="22096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8"/>
          <a:stretch/>
        </p:blipFill>
        <p:spPr>
          <a:xfrm>
            <a:off x="3429000" y="3960720"/>
            <a:ext cx="2590920" cy="25686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de66"/>
                </a:solidFill>
                <a:uFillTx/>
                <a:latin typeface="Times New Roman"/>
                <a:hlinkClick r:id="rId2"/>
              </a:rPr>
              <a:t>www.about.com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de66"/>
                </a:solidFill>
                <a:uFillTx/>
                <a:latin typeface="Times New Roman"/>
                <a:hlinkClick r:id="rId3"/>
              </a:rPr>
              <a:t>www.Wiki.answers.com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de66"/>
                </a:solidFill>
                <a:uFillTx/>
                <a:latin typeface="Times New Roman"/>
                <a:hlinkClick r:id="rId4"/>
              </a:rPr>
              <a:t>www.answers.com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de66"/>
                </a:solidFill>
                <a:uFillTx/>
                <a:latin typeface="Times New Roman"/>
                <a:hlinkClick r:id="rId5"/>
              </a:rPr>
              <a:t>http://www.black-inventor.com/Benjamin-Banneker.asp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de66"/>
                </a:solidFill>
                <a:uFillTx/>
                <a:latin typeface="Times New Roman"/>
                <a:hlinkClick r:id="rId6"/>
              </a:rPr>
              <a:t>www.itsaboutclocks.com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490c5"/>
                </a:solidFill>
                <a:latin typeface="Trebuchet MS"/>
              </a:rPr>
              <a:t>Pictur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c6c6c"/>
                </a:solidFill>
                <a:latin typeface="Times New Roman"/>
              </a:rPr>
              <a:t>1</a:t>
            </a:r>
            <a:r>
              <a:rPr b="0" lang="en-US" sz="1200" spc="-1" strike="noStrike" u="sng">
                <a:solidFill>
                  <a:srgbClr val="ffde66"/>
                </a:solidFill>
                <a:uFillTx/>
                <a:latin typeface="Times New Roman"/>
                <a:hlinkClick r:id="rId7"/>
              </a:rPr>
              <a:t>a74a83317fd8f&amp;fr2=tab-</a:t>
            </a:r>
            <a:r>
              <a:rPr b="0" lang="en-US" sz="1200" spc="-1" strike="noStrike" u="sng">
                <a:solidFill>
                  <a:srgbClr val="ffde66"/>
                </a:solidFill>
                <a:uFillTx/>
                <a:latin typeface="Times New Roman"/>
                <a:hlinkClick r:id="rId8"/>
              </a:rPr>
              <a:t>web&amp;no</a:t>
            </a:r>
            <a:r>
              <a:rPr b="0" lang="en-US" sz="1200" spc="-1" strike="noStrike" u="sng">
                <a:solidFill>
                  <a:srgbClr val="ffde66"/>
                </a:solidFill>
                <a:uFillTx/>
                <a:latin typeface="Times New Roman"/>
                <a:hlinkClick r:id="rId9"/>
              </a:rPr>
              <a:t>=12&amp;tt=5560000&amp;sigr=13g27c89k&amp;sigi=11l7evtsn&amp;sigb=12rfcr1eh</a:t>
            </a:r>
            <a:endParaRPr b="0" lang="en-US" sz="1200" spc="-1" strike="noStrike">
              <a:solidFill>
                <a:srgbClr val="6c6c6c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c6c6c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c6c6c"/>
                </a:solidFill>
                <a:latin typeface="Times New Roman"/>
              </a:rPr>
              <a:t>http://images.search.yahoo.com/search/images?p=pendulum+clock&amp;fr2=tab-web&amp;xargs=0&amp;pstart=1&amp;b=21&amp;ni=20</a:t>
            </a:r>
            <a:endParaRPr b="0" lang="en-US" sz="1200" spc="-1" strike="noStrike">
              <a:solidFill>
                <a:srgbClr val="6c6c6c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c6c6c"/>
                </a:solidFill>
                <a:latin typeface="Times New Roman"/>
              </a:rPr>
              <a:t>http://www.theclockgallery.com/usrimage/85786.jpg</a:t>
            </a:r>
            <a:endParaRPr b="0" lang="en-US" sz="1200" spc="-1" strike="noStrike">
              <a:solidFill>
                <a:srgbClr val="6c6c6c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c6c6c"/>
                </a:solidFill>
                <a:latin typeface="Times New Roman"/>
              </a:rPr>
              <a:t>http://www.bnl.gov/bera/activities/globe/Banneker_files/clock.gif</a:t>
            </a:r>
            <a:endParaRPr b="0" lang="en-US" sz="1200" spc="-1" strike="noStrike">
              <a:solidFill>
                <a:srgbClr val="6c6c6c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c6c6c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c6c6c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c6c6c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077320" cy="68580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rebuchet MS"/>
              </a:rPr>
              <a:t>   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8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8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8000" spc="-1" strike="noStrike">
                <a:solidFill>
                  <a:srgbClr val="d60093"/>
                </a:solidFill>
                <a:latin typeface="Trebuchet MS"/>
              </a:rPr>
              <a:t>The End!!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17:38:53Z</dcterms:created>
  <dc:creator>student</dc:creator>
  <dc:description/>
  <dc:language>en-US</dc:language>
  <cp:lastModifiedBy>Taylor</cp:lastModifiedBy>
  <dcterms:modified xsi:type="dcterms:W3CDTF">2010-09-23T23:55:28Z</dcterms:modified>
  <cp:revision>15</cp:revision>
  <dc:subject/>
  <dc:title>The History of Clock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56560281</vt:r8>
  </property>
</Properties>
</file>